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CF8C-43C3-4C82-8ADD-BCA115F1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7AA2-6831-4994-ACC7-930EDE63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F15A2-7246-4BCA-8F85-A0E23D7D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D2964-19EE-455C-A530-6CC8758F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A323B-3DDC-40DE-BB36-D0ABE9E4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35D2B-7824-4DB2-9A56-C3EBA301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297FF-6B6F-49C2-ACC1-A07BAD15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24593-DD8E-4547-8647-FC55B7EA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0499C-7C65-43F8-B5AC-E868CC38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BB49A-C0B7-44DF-804B-06F6F101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BFDB4-0A65-4913-86CA-45ECE970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39916-0896-4F45-8318-27CF6A20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97DC-BD88-4E98-A297-2654E6FF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8450D-0B56-4118-8683-3B5B2163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40D71-9936-4A66-8E3C-D722DC3D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8D097-2C6D-4BFF-A0CD-B8627107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2E6CD-9FA2-4E79-884D-8E1E8260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B846A-874D-4EB7-98E4-13CDD928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EE375-7A1C-4B63-8A75-2C8A6D70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E80C0-731B-4E46-8193-9131E9AA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44F5F-B0C8-4F94-AF9F-2EA234A8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99466-9E61-41CB-BD32-7DE5B0A8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63AD9-85B9-4E10-89B5-6E3DAED4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3126-2BF5-4DED-B68D-E7812627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E0B02-F829-4FF4-976E-949C0D9B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73926-1A7E-4406-89DB-A90855F4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23EBE-9D3D-4111-A353-F66E6D7B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EDC5F-E35D-4B52-AA9D-6680B67F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B219F-1A7B-4EA7-BD97-554460BC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0698E-745B-4828-B199-E692DC81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A8A5A-A96B-4BA9-B605-59996B2A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E0AEA-8FEA-42C4-AA2F-E9B9E22F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F3C1F-8847-4C26-A8FC-52316E6C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A80E0-F65C-495B-9446-D54B20AD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8245-C513-46D0-95D1-6207B3DA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20CB3-D2BB-48F0-8EB2-F587D103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281BD-D0ED-4237-8634-C8CB3384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12DAD-5F2B-4411-A6C0-EBFC45C2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4E813-CA16-4C88-B02E-F1E9328B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0C086-961F-4B2C-AE52-713E23AE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88E72-68E4-4BB8-9E98-53F4597E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258B0-6F58-4D98-A597-4BAB149D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F965E-8740-46A8-92CF-777D1930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80F4A-6C3B-499F-93E6-38F1D2A6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06BE7-06D7-4A8E-977B-C312A791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26AB-F189-4AA9-9008-3436EEAD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6F6F2-145A-454D-964E-F4745F07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EF052-A2AD-4D08-9376-460CE2A1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34521-4955-409A-B6EA-BE955227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BDD09A-5AB4-4281-A78C-2389FC1D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A72E6-3A87-4FF5-B726-806F944D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55AE35-CE34-49A8-B49F-E02B4568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292A43-4E63-4DFB-B2D3-76C9E214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D738A8-B9AB-4F86-BACE-CBA4D1C7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78132B-E3C2-4B76-A7B7-57B53C12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A17C7A-400E-45F7-9EC3-960F0D6C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18A3-F687-43E2-B251-788ADE2A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FD959F-58AF-4938-8B63-40334739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BCFC33-73EF-44F7-80BA-185082A2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D9EEEB-87DB-4B88-8E0A-DC8FABE7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575642-C6B4-441C-9A88-85E1F30E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29313B-2C30-4CB1-98DD-244F8CD7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C172EF-0747-47E6-8186-289DDEE0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55124F-0B95-40FA-A398-079D37FF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2912C1-4167-4FE5-BEB7-6E6AA669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C51786-AA1B-48FA-B23F-4B6BF4BC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9767D2-D01A-4820-B293-AE3CB1CD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865C-98B3-45CA-941A-FE2A1B07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A5BFA2-9B9E-404D-A98E-78FE6D51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202CC9-8141-4EDD-8ECD-E00F4C68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5C6060-AC19-4930-9273-242A4EA5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01D0EA-0491-410B-9516-E065D07F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5188A7-D9D0-48AF-A6BC-30F8ADF5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B909BF-825A-47D8-8773-7AAB0C79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19A431-D560-4787-A4ED-8B400F4E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E224BE-F777-4C07-8B53-B5F25439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C39C7F-42A6-4847-B75D-F8C815D2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5D5033-D55C-4F44-810D-11392F27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2F45-B7EF-445F-85B3-E11D759B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D4327E-6EF8-4D96-A785-217EDDD0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99FFEF-DCB6-4107-8891-C0FEDF12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C923B8-72B7-4A28-875A-7C28E7DD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4AD2A4-CA52-44D9-88B1-4E6819AC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133DC6-9CEA-4AF1-B691-6796688C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D868EA-8EC2-4500-9448-64CF9314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26B0F3-4016-49AF-A7AA-3B384B1F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B9450B-9B95-4DA6-A6C6-E18299F5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9AA11B-5820-481C-97E4-C96AE387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312A46-1A1A-407F-9558-24EC53CA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A590-3BA4-493D-B65F-A4F2733B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A5C829-A985-4672-B0C5-15901389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45F5F9-0BEE-40F0-973D-C74465C6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39B9E0-5131-47B6-A196-0DD83681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4BFD18-E922-4717-BB86-4240C4D6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C1B6A2-F81C-4B16-9C26-E22005B0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2C7DEA-6F6A-40D7-87B5-203DAF9E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BC1563-05B4-4A5B-B3A5-2351B3BF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9A352F-A121-44E9-96C0-B87AB04E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3BC442-3A2B-4BBA-BC6F-2F7FDD17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2D8547-7939-4178-ACD9-505A92F6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F732-0BBB-4EDC-9867-1BF86F93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9A05BF-64D0-4CB1-8ABC-AD378B14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613BC8-1FF2-4283-8488-1F6A90C6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8C8E3E-DFDD-41C9-9C4E-0712E66E5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D1E044-AA4C-4CD2-AA4D-91041EA7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04A0DF-3D47-406E-80BA-85996F6B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A0D056-143F-4CBB-9313-86B4F3FE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9CDFCB-5C6C-4943-86A0-8AAE3F60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B10059-6BCB-4C82-9F91-3579B0B1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A5368A-90D9-4BB6-89F0-D3660F20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A2519E-8CED-4127-A377-0F7EA4A7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3E50-65C5-42BF-903E-EF2242AB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AA88-CDBF-4F76-A355-C3B9AA28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63F753-2982-4158-8418-257DC7F0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C9773C-F1D4-487B-B627-AD6E028D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B75F08-879B-4C1C-9373-7223186E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432B1C-7F04-4C93-A922-16B56310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3B9AC0-D210-4FD9-999B-5A3144D1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73AC15-92E4-4D32-A496-4B01BBCE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3EB699-ADFE-4128-93CB-81F83E47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CF5EAC-7EC7-4930-93F6-C508F418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A37375-73D3-4BE3-A835-408022B3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54AA02-D7B1-439D-8772-860803AC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35F3-8C27-4DD7-ADB3-1595BEFB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8C28B9-5040-48EB-8089-B35F32C1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B125A7-C30B-4AA0-9217-520B83DB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DCA725-B413-4B52-9CCE-B0781EA5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764A03-24D7-4AE8-8AAE-E17C8DCD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F74BB9-AE11-4F77-9E3F-1E459AC1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F0DDE8-FAD2-4D4D-A2BC-32C9DB2C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30AA87-F38E-41DF-B518-BDD4307F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4E102D-20BF-48B5-8F6A-4ED0F54A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520187-BD76-4103-868A-FB3C3CA2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93AD28-6538-4E2D-A0A7-4EBA5788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5A16-930C-4C81-9E68-472E0D72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56E310-B657-4B86-B20D-D2DCAECC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3D0519-9EBA-4363-88A6-47D9D02E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B3AF97-C0F7-4C7B-8412-AF8886D7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B2676F-12AA-4B4C-982E-ED481ABE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D88C0B-77FC-488B-BF17-C4ACBD56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9D17B2-DB41-4FD7-BE8D-7088B73E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5956A1-DC7E-4C08-AF12-53E319AE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C91E71-6645-4F51-A761-156A8414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0A66AC-7ED6-4DE4-8043-19038159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EFCBE1-2DEB-4EE6-8A97-012C0E9F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9B90-EB0E-4303-8F45-64E4C3D0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0C9BC9-B714-415E-8FC5-38E0DE6A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527574-F951-4653-8A04-0F84A8D5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25EFAE-235A-47AD-BBEF-48603587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98A6D9-8C34-4BCD-8C9D-793E2643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B7FA9B-14C0-4DD3-AF94-C76EB3F6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9B6C45-BE2D-4CB3-8566-71DAD432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361ACD-A799-4BF3-A5C1-A004049C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F231EB-B9DF-46B0-A8E0-9016CE26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88F015-A17F-47CC-BF2D-77852F2A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90AD2B-929A-4575-A42A-3B6E4E2C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00E7-7B6E-4C75-8174-D0201ED7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27CEF4-9924-4421-B86E-28F90B39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620478-C154-4C2E-A7D2-B607932B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90F214-CE0F-4351-9B62-CD0657F9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CD7785-2F96-4D11-A28C-A23891B0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D326CC-0C85-494F-AA67-C8CC0EDE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F2ED4D-DF0D-4267-BCBB-6DA5A8AF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7F2CC4-BDD5-4BD3-A3F3-D8939EF9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0F64CB-FA6D-408D-B062-09714082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360555-B709-4F3D-A9E5-694A28C5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79C325-79F5-48FC-9A6D-3C7E66D0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85BB3-66F5-4DD6-B3A1-9BBA10EC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3C8CD4-398A-4F4F-8F41-A2115CF0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0B398B-F296-4B12-98E6-A60B2464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7C6DEB-4877-4193-B2F3-7778982D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A2AE7-1429-4FDD-8358-8694C36A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ECF7C-8F75-4B30-B10F-C9043B77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CB163-DCFA-4884-B210-3A68DEA2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EBCA8-8384-49A0-BB5B-36BA09FE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F0B8-E2ED-43F0-84F5-2CEBF36A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92BC4-2856-4ED4-9EF4-1BB38882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34619-C76A-4538-98B2-551A1AC1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A7AF3-68E1-4489-ABBA-05C93DC3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A62BD-BCCB-41DB-B455-AEB5F456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220A5-7EBE-425C-A442-F5C055EB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FD06E-7D77-448B-B18E-214528C7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5484F-73C0-4A0A-902E-FBD1354E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A132E-58AD-42F0-88D8-77B1ED98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104D1-06AD-4D30-A3A0-BBB76DA8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07495-40E1-4732-9D2F-59F2EDF0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807D-3235-477B-B1D8-20D17A97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ED48F-B8FD-4128-ACDA-217CEF4F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E89AF-4DCF-41A7-948B-F8A23663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3CDEC-C484-4119-B99A-89B608EE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620ED-8B4E-4D7B-8E5A-C153E78F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E6E17-4695-4EAD-B6F5-603C1619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E274A-011E-4548-9946-FFDD3BAF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BB4FC-0968-4595-A86F-0A75409F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B2B1D-E8BF-4C9A-95A0-E9F864A3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9FB70-74AE-4AAE-9ACE-F57AF7BD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70F79-91A7-4B51-890E-EF485563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A514-F760-4228-A8C7-29350BF1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6A329-E71B-4B98-8112-0627363C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189A7-1CE9-45CD-9850-A96C981E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252DB-6166-4A10-AE3E-70B0FC9F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E53E2-9EC2-492D-940F-2F48ECFA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D32ED-8C04-4174-8643-AE963500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66FD2-4EA7-4FC8-BF22-DC80B490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4E219-7D9F-4694-ABE5-0159C709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7BC2E-BF98-4A1C-997C-6125FE0F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5E69E-5E34-4443-9844-A55DA99D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F8595-07AC-463C-B915-4DA5F593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75A0-CF6C-43A0-9B75-3D67343D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3F6AC-CCBB-4B22-83D2-36C6EEF1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EB7F5-27F1-4E33-9CE5-87EB38E6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CC14B-1371-474C-BD16-37D4BCDF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3CF6A-5715-4E07-A1AA-40AC01FB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E9539-C643-491E-9909-D4ACAAE7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7E322-93D5-424C-836E-74D03D7B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94691-685C-4677-A5B7-642E7364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A0344-7032-445F-BFE6-159BE2A3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86832-B9E8-47FA-B9CD-8AE5F59A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466C7-A195-4C77-AAB6-2C09581F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337F-DFAC-4E0E-83AC-40586D79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1BAF2-506F-40E3-B426-7989069E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6CE87-3C3F-4F8A-BA20-4F7EF51D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7A865-7795-41F6-B2A5-079BF1DB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9141F-416C-41AF-913F-25659326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48F7B-5595-418F-92C6-19D21ABB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25E59-D7BC-4152-AC76-C4B19822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4CED9-5D93-4006-B1A7-B2D2035A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6449F-2540-44F3-A946-62302BB9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82260-2404-4D41-B7FF-2DC9F607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C23E1-0487-4A99-8537-FE352A99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B973-E191-4A75-A4C5-9D1FDD00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16F9A-C1EC-4E7E-ADBC-8EA0A3F9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567B7-C422-4392-944D-55C8DC09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1B3AF-FB5D-4EB4-9EC5-64D08DD1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21952-1F18-4CE1-897F-AAE6D10F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4B6C6-2DBD-4422-BA78-16A7B804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AAF09-3B93-4626-958B-90FF0146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2FA8C-4EB3-4076-8392-C2D021A6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B608B-45AC-4766-A147-66F11C2A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A003F-E709-45D1-866F-193BE7CD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CC4AA-21DA-4137-A7F3-9CDF9540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9BA9-A399-4923-933B-591AF7AC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B8037-3677-4204-AEB0-B2C40CE0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4830D-63F1-440D-BFE9-C9E092C6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18DCF-DC9F-49B6-B639-08556834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A274F-985F-4CBB-B9D5-78B11231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77AE1-A905-47F0-BB1F-9D2964BE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0F033-1D2E-4445-BAA3-86CEBCB0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AF3CF-CB8F-4B87-B1A2-9802564A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2053D-8811-4E99-940F-5EC658E0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50C76-1F8D-4E8D-A6B5-0E412016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A86C6-5B5A-4E32-B838-59322F94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8AE9-A33F-4CEB-BEA1-35EB390993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5A06-A5FC-4431-84ED-C7FDD7A138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15F9-87BB-4D02-85A6-B7B74FCB3B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3DC1-CCAB-4DE7-9CAD-5BE3F89522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1D45-59BC-4CBE-9031-00469CAC59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94C4-5650-4C88-8B5D-D2C5FBF306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0667-5011-4473-A9C6-6AF5EBC0A8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E2EA-81E5-4990-8EBA-6242E0B38F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4369-4343-40F6-96EE-82B941BCBD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EAFD-3B57-4164-BF08-FB6769A176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40C7-C258-42EB-A8C7-A9940DF005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A6BB-CE3B-42E5-89E2-0CF83AFA15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90CB-B307-4B62-9F23-0FD6031695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7526-CB61-48F5-AE2E-74EE92D018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60D2-264A-40BC-9C1E-01B7616849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E2C8-EDE0-4D51-8EC4-770EFBABD4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18D0-DB64-4569-996C-325DAF798A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4DCE-21C7-4148-B4C4-6D7E27787D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B88E-0F63-4E8F-BB30-553D6C5522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C7DA-1B68-47CB-9057-98E7931895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1448-CFB5-4425-BAA1-E7AE096A9F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45B3-6B4A-4C19-8BF9-95158AFD6E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E0D1-B473-46C7-AA99-96D4BC3848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679F-43DF-46B9-8A97-6C1F2A5935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2319-B931-4370-8EC9-1511D1CF8E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B955-09EC-4A58-824B-DCE30A6ECA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3372-85E9-47B9-B4D2-D3E42F1BC8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EAE6-7136-4F41-AE24-878C5F0373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31E9-3460-4764-8188-BD1CD56482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90E8-5F26-47F4-8F4F-6B120B1901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D799-96C9-4534-804F-8314A83553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5F69-6475-4DDB-BDC8-33AF8F0F89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892D-59AF-4EA1-AA96-7148ECAC9B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58C5-551E-48FE-8D4E-BF6A15E5FE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57CB-2A2A-41EF-A9D5-02EC775A57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B7EC-6440-46AF-B5B3-B3D2E459A2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163B-75E0-4808-AC83-C1D380955D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0D3F-FAC8-41F4-9DEC-5BF5224519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E9BC-3906-46BF-9F2C-3568D6F79E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CE66-FFFC-4E71-BC4B-1F02B6AE56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394840" cy="714240"/>
          </a:xfrm>
          <a:prstGeom prst="rect">
            <a:avLst/>
          </a:prstGeom>
          <a:ln w="0">
            <a:noFill/>
          </a:ln>
        </p:spPr>
      </p:pic>
      <p:pic>
        <p:nvPicPr>
          <p:cNvPr id="1023" name="图片 28679" descr=""/>
          <p:cNvPicPr/>
          <p:nvPr/>
        </p:nvPicPr>
        <p:blipFill>
          <a:blip r:embed="rId2"/>
          <a:stretch/>
        </p:blipFill>
        <p:spPr>
          <a:xfrm>
            <a:off x="1835280" y="2852640"/>
            <a:ext cx="5545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69633" descr=""/>
          <p:cNvPicPr/>
          <p:nvPr/>
        </p:nvPicPr>
        <p:blipFill>
          <a:blip r:embed="rId1"/>
          <a:stretch/>
        </p:blipFill>
        <p:spPr>
          <a:xfrm>
            <a:off x="214200" y="779400"/>
            <a:ext cx="8715600" cy="59626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2"/>
          <a:stretch/>
        </p:blipFill>
        <p:spPr>
          <a:xfrm>
            <a:off x="826920" y="4119480"/>
            <a:ext cx="6481800" cy="4730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3"/>
          <a:stretch/>
        </p:blipFill>
        <p:spPr>
          <a:xfrm>
            <a:off x="684360" y="4653000"/>
            <a:ext cx="6481440" cy="4730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4"/>
          <a:stretch/>
        </p:blipFill>
        <p:spPr>
          <a:xfrm>
            <a:off x="611280" y="5214960"/>
            <a:ext cx="3313080" cy="4730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5"/>
          <a:stretch/>
        </p:blipFill>
        <p:spPr>
          <a:xfrm>
            <a:off x="3924360" y="5186520"/>
            <a:ext cx="3313080" cy="4730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6"/>
          <a:stretch/>
        </p:blipFill>
        <p:spPr>
          <a:xfrm>
            <a:off x="770040" y="5718240"/>
            <a:ext cx="4752720" cy="4730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7"/>
          <a:stretch/>
        </p:blipFill>
        <p:spPr>
          <a:xfrm>
            <a:off x="5580000" y="5718240"/>
            <a:ext cx="2376720" cy="4730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8"/>
          <a:stretch/>
        </p:blipFill>
        <p:spPr>
          <a:xfrm>
            <a:off x="900000" y="6251400"/>
            <a:ext cx="2376720" cy="47340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9"/>
          <a:stretch/>
        </p:blipFill>
        <p:spPr>
          <a:xfrm>
            <a:off x="3348000" y="6280200"/>
            <a:ext cx="2376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60428" descr=""/>
          <p:cNvPicPr/>
          <p:nvPr/>
        </p:nvPicPr>
        <p:blipFill>
          <a:blip r:embed="rId1"/>
          <a:stretch/>
        </p:blipFill>
        <p:spPr>
          <a:xfrm>
            <a:off x="247680" y="1762200"/>
            <a:ext cx="8648640" cy="33336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4140360" y="3471840"/>
            <a:ext cx="1008000" cy="4730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6516720" y="3457440"/>
            <a:ext cx="1008000" cy="4730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4356000" y="4019400"/>
            <a:ext cx="4537080" cy="4734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698400" y="4551480"/>
            <a:ext cx="10080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59410" descr=""/>
          <p:cNvPicPr/>
          <p:nvPr/>
        </p:nvPicPr>
        <p:blipFill>
          <a:blip r:embed="rId1"/>
          <a:stretch/>
        </p:blipFill>
        <p:spPr>
          <a:xfrm>
            <a:off x="152280" y="880920"/>
            <a:ext cx="8839440" cy="50961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8042400" y="2795760"/>
            <a:ext cx="576000" cy="4730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8028000" y="4451400"/>
            <a:ext cx="576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58373" descr=""/>
          <p:cNvPicPr/>
          <p:nvPr/>
        </p:nvPicPr>
        <p:blipFill>
          <a:blip r:embed="rId1"/>
          <a:stretch/>
        </p:blipFill>
        <p:spPr>
          <a:xfrm>
            <a:off x="376200" y="728640"/>
            <a:ext cx="8391600" cy="54007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5018040" y="1197000"/>
            <a:ext cx="576360" cy="4730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4140360" y="1744560"/>
            <a:ext cx="1511280" cy="4730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4"/>
          <a:stretch/>
        </p:blipFill>
        <p:spPr>
          <a:xfrm>
            <a:off x="6588000" y="2290680"/>
            <a:ext cx="1511280" cy="4730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5"/>
          <a:stretch/>
        </p:blipFill>
        <p:spPr>
          <a:xfrm>
            <a:off x="971640" y="3948120"/>
            <a:ext cx="6264360" cy="4730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6"/>
          <a:stretch/>
        </p:blipFill>
        <p:spPr>
          <a:xfrm>
            <a:off x="755640" y="5530680"/>
            <a:ext cx="62643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57352" descr=""/>
          <p:cNvPicPr/>
          <p:nvPr/>
        </p:nvPicPr>
        <p:blipFill>
          <a:blip r:embed="rId1"/>
          <a:stretch/>
        </p:blipFill>
        <p:spPr>
          <a:xfrm>
            <a:off x="200160" y="871560"/>
            <a:ext cx="8743680" cy="51148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8028000" y="1512720"/>
            <a:ext cx="576360" cy="4734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5162400" y="3125880"/>
            <a:ext cx="576360" cy="4730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539640" y="4797360"/>
            <a:ext cx="6840720" cy="4730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5"/>
          <a:stretch/>
        </p:blipFill>
        <p:spPr>
          <a:xfrm>
            <a:off x="611280" y="5388120"/>
            <a:ext cx="6840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56324" descr=""/>
          <p:cNvPicPr/>
          <p:nvPr/>
        </p:nvPicPr>
        <p:blipFill>
          <a:blip r:embed="rId1"/>
          <a:stretch/>
        </p:blipFill>
        <p:spPr>
          <a:xfrm>
            <a:off x="181080" y="2619360"/>
            <a:ext cx="8781840" cy="1619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8042400" y="3141720"/>
            <a:ext cx="5760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55300" descr=""/>
          <p:cNvPicPr/>
          <p:nvPr/>
        </p:nvPicPr>
        <p:blipFill>
          <a:blip r:embed="rId1"/>
          <a:stretch/>
        </p:blipFill>
        <p:spPr>
          <a:xfrm>
            <a:off x="223920" y="1204920"/>
            <a:ext cx="8696160" cy="44481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8028000" y="2435400"/>
            <a:ext cx="576360" cy="4730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8028000" y="4019400"/>
            <a:ext cx="576360" cy="4734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6948360" y="5084640"/>
            <a:ext cx="576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54276" descr=""/>
          <p:cNvPicPr/>
          <p:nvPr/>
        </p:nvPicPr>
        <p:blipFill>
          <a:blip r:embed="rId1"/>
          <a:stretch/>
        </p:blipFill>
        <p:spPr>
          <a:xfrm>
            <a:off x="1033560" y="1314360"/>
            <a:ext cx="7076880" cy="4229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1547640" y="2378160"/>
            <a:ext cx="6409080" cy="4730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1476360" y="2938320"/>
            <a:ext cx="6408720" cy="4730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4"/>
          <a:stretch/>
        </p:blipFill>
        <p:spPr>
          <a:xfrm>
            <a:off x="1403280" y="4467240"/>
            <a:ext cx="6408720" cy="4730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5"/>
          <a:stretch/>
        </p:blipFill>
        <p:spPr>
          <a:xfrm>
            <a:off x="1332000" y="5027760"/>
            <a:ext cx="64087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52231" descr=""/>
          <p:cNvPicPr/>
          <p:nvPr/>
        </p:nvPicPr>
        <p:blipFill>
          <a:blip r:embed="rId1"/>
          <a:stretch/>
        </p:blipFill>
        <p:spPr>
          <a:xfrm>
            <a:off x="1380960" y="2238480"/>
            <a:ext cx="6382080" cy="23810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1908000" y="2895480"/>
            <a:ext cx="6480360" cy="4730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1835280" y="3429000"/>
            <a:ext cx="6480000" cy="4730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1619280" y="4005360"/>
            <a:ext cx="64800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8:31:33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